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19.gif" ContentType="image/gif"/>
  <Override PartName="/ppt/media/image17.jpeg" ContentType="image/jpeg"/>
  <Override PartName="/ppt/media/image16.jpeg" ContentType="image/jpeg"/>
  <Override PartName="/ppt/media/image7.gif" ContentType="image/gif"/>
  <Override PartName="/ppt/media/image15.jpeg" ContentType="image/jpeg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4.jpeg" ContentType="image/jpeg"/>
  <Override PartName="/ppt/media/image6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AC2D-9D92-4081-8A76-F73B061E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A7E-EEFC-452F-B7FA-9C2D4114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D9C0-347B-45EA-953F-27843C93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1CB-8FE1-4F94-A9EE-8AD31FCB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5BD9-001F-4C48-9EDE-B88E4FB6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2D63-2076-4F84-ABF0-773CA3A9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E90B-8A4C-4A82-B31A-D73D5E38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CFA0-6159-4BA1-A29C-F915EC02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A513-9126-40A9-A041-8EDC719F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6C38-ACD8-4CC9-8E23-DEB0EFD4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15B1-13C8-43D1-A170-0EC610F6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CFC9-35DF-4952-B86A-CA4E700B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622C-C6E0-4560-B2B4-F2820B22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E31E-4321-493F-A89C-5E3A600B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C0F6-5EA1-4FAD-8C1A-595E3421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0246-CB26-44A3-9351-5D68BC3C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C18F-003F-4889-82F9-4B659B95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54F-CA58-419D-B61A-A6A22896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448-E4FA-4A4F-AAF5-8D6A7543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F329-73C8-4CFF-B4A7-A3F96D11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165-EF04-4176-9287-C650DD45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7FB-A9A5-4EED-813E-3ECC15D4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0545-D0D1-4751-9F2B-B5C0B88B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0D16-B597-4BB5-A0FB-9C31100C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6405b"/>
                </a:gs>
                <a:gs pos="100000">
                  <a:srgbClr val="538dc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927C-1FA9-423C-8693-54E5E9C2E03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164C-9DC7-4B9A-A2A5-177947904277}" type="slidenum"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6"/>
          <p:cNvSpPr txBox="1"/>
          <p:nvPr/>
        </p:nvSpPr>
        <p:spPr>
          <a:xfrm>
            <a:off x="324000" y="1197000"/>
            <a:ext cx="856908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01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8f8f8"/>
                </a:solidFill>
                <a:latin typeface="Impact"/>
              </a:rPr>
              <a:t>Компьютерные игры, развивающие 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8f8f8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8f8f8"/>
                </a:solidFill>
                <a:latin typeface="Impact"/>
              </a:rPr>
              <a:t>интеллектуальные способности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8f8f8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8f8f8"/>
                </a:solidFill>
                <a:latin typeface="Impact"/>
              </a:rPr>
              <a:t>детей дошкольного возраста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8f8f8"/>
              </a:solidFill>
              <a:latin typeface="Impact"/>
              <a:ea typeface="Impact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68360" y="189000"/>
            <a:ext cx="3887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унегова Ирина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Шарапова Наталья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636 группа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5616720" cy="2979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2700360" y="3284640"/>
            <a:ext cx="5638680" cy="335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916360" y="3500280"/>
            <a:ext cx="5662440" cy="3095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5616360" cy="316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2916360" y="115920"/>
            <a:ext cx="5256000" cy="3025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2916360" y="3213000"/>
            <a:ext cx="5287680" cy="345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195640" y="54936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.Компьютерные программы ведут уже в дошкольном возрасте к становлению способности объективно оценивать результаты и ход собственной деятельности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2050920" y="3284640"/>
            <a:ext cx="662040" cy="2160360"/>
          </a:xfrm>
          <a:custGeom>
            <a:avLst/>
            <a:gdLst>
              <a:gd name="textAreaLeft" fmla="*/ 88560 w 662040"/>
              <a:gd name="textAreaRight" fmla="*/ 573480 w 662040"/>
              <a:gd name="textAreaTop" fmla="*/ 378000 h 2160360"/>
              <a:gd name="textAreaBottom" fmla="*/ 156636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79ec7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8352000" y="3429000"/>
            <a:ext cx="792000" cy="2016000"/>
          </a:xfrm>
          <a:custGeom>
            <a:avLst/>
            <a:gdLst>
              <a:gd name="textAreaLeft" fmla="*/ 105840 w 792000"/>
              <a:gd name="textAreaRight" fmla="*/ 686160 w 792000"/>
              <a:gd name="textAreaTop" fmla="*/ 346320 h 2016000"/>
              <a:gd name="textAreaBottom" fmla="*/ 148068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24" stAng="-5400000" swAng="5400000"/>
                <a:lnTo>
                  <a:pt x="21600" y="12152"/>
                </a:lnTo>
                <a:arcTo wR="21600" hR="7424" stAng="0" swAng="2651440"/>
                <a:lnTo>
                  <a:pt x="7200" y="21175"/>
                </a:lnTo>
                <a:lnTo>
                  <a:pt x="0" y="17212"/>
                </a:lnTo>
                <a:lnTo>
                  <a:pt x="7200" y="12399"/>
                </a:lnTo>
                <a:lnTo>
                  <a:pt x="7200" y="14423"/>
                </a:lnTo>
                <a:arcTo wR="21600" hR="7424" stAng="2651440" swAng="-2256288"/>
                <a:lnTo>
                  <a:pt x="20476" y="9788"/>
                </a:lnTo>
                <a:arcTo wR="21600" hR="7424" stAng="-395152" swAng="-5004848"/>
                <a:close/>
              </a:path>
              <a:path fill="darkenLess" w="21600" h="21600">
                <a:moveTo>
                  <a:pt x="0" y="0"/>
                </a:moveTo>
                <a:arcTo wR="21600" hR="7424" stAng="-5400000" swAng="5400000"/>
                <a:lnTo>
                  <a:pt x="21600" y="12152"/>
                </a:lnTo>
                <a:arcTo wR="21600" hR="7424" stAng="0" swAng="-395152"/>
                <a:lnTo>
                  <a:pt x="20476" y="9788"/>
                </a:lnTo>
                <a:arcTo wR="21600" hR="7424" stAng="-395152" swAng="-5004848"/>
                <a:close/>
              </a:path>
            </a:pathLst>
          </a:custGeom>
          <a:solidFill>
            <a:srgbClr val="879ec7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2843280" y="486900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деемся, что мы ВАС убедили в этом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3" name="Picture 7" descr="гусеница"/>
          <p:cNvPicPr/>
          <p:nvPr/>
        </p:nvPicPr>
        <p:blipFill>
          <a:blip r:embed="rId1"/>
          <a:stretch/>
        </p:blipFill>
        <p:spPr>
          <a:xfrm>
            <a:off x="4716360" y="5373720"/>
            <a:ext cx="1727280" cy="129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формирование компетентности в области компьютерных игр развивающих интеллектуальных способности детей дошкольного возраста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2627280" y="549360"/>
            <a:ext cx="5762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идактическая цель: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Picture 7" descr="компьютер2"/>
          <p:cNvPicPr/>
          <p:nvPr/>
        </p:nvPicPr>
        <p:blipFill>
          <a:blip r:embed="rId1"/>
          <a:stretch/>
        </p:blipFill>
        <p:spPr>
          <a:xfrm>
            <a:off x="2411280" y="4508640"/>
            <a:ext cx="2737080" cy="2173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484360" y="2060280"/>
            <a:ext cx="640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Объяснить значение компьютерных программ в жизни дошкольников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Объяснить необходимость применения компьютеров для детей дошкольного возраста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Сформировать представления о компьютерных играх развивающих интеллектуальные способности детей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843280" y="189000"/>
            <a:ext cx="561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тодические задачи: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Picture 5" descr="дискета"/>
          <p:cNvPicPr/>
          <p:nvPr/>
        </p:nvPicPr>
        <p:blipFill>
          <a:blip r:embed="rId1"/>
          <a:stretch/>
        </p:blipFill>
        <p:spPr>
          <a:xfrm>
            <a:off x="6588000" y="1197000"/>
            <a:ext cx="2087640" cy="136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2843280" y="189000"/>
            <a:ext cx="5914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ополагающий вопрос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2627280" y="1773360"/>
            <a:ext cx="6050160" cy="4392360"/>
          </a:xfrm>
          <a:prstGeom prst="horizontalScroll">
            <a:avLst>
              <a:gd name="adj" fmla="val 12500"/>
            </a:avLst>
          </a:prstGeom>
          <a:solidFill>
            <a:srgbClr val="879ec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72f0f"/>
                </a:solidFill>
                <a:latin typeface="Arial"/>
              </a:rPr>
              <a:t>Существует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72f0f"/>
                </a:solidFill>
                <a:latin typeface="Arial"/>
              </a:rPr>
              <a:t>ли связь между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72f0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72f0f"/>
                </a:solidFill>
                <a:latin typeface="Arial"/>
              </a:rPr>
              <a:t>компьютером и ребенком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6" name="Picture 6" descr="человек"/>
          <p:cNvPicPr/>
          <p:nvPr/>
        </p:nvPicPr>
        <p:blipFill>
          <a:blip r:embed="rId1"/>
          <a:stretch/>
        </p:blipFill>
        <p:spPr>
          <a:xfrm>
            <a:off x="7524720" y="5229360"/>
            <a:ext cx="1368360" cy="145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411280" y="155736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Важен ли компьютер для развития дошкольников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Когда можно приобщать детей к компьютерным играм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Есть ли компьютерные игры, развивающие интеллектуальные способности детей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8" name="Picture 8" descr="компьютер"/>
          <p:cNvPicPr/>
          <p:nvPr/>
        </p:nvPicPr>
        <p:blipFill>
          <a:blip r:embed="rId1"/>
          <a:stretch/>
        </p:blipFill>
        <p:spPr>
          <a:xfrm>
            <a:off x="7236000" y="4724280"/>
            <a:ext cx="1908000" cy="1873440"/>
          </a:xfrm>
          <a:prstGeom prst="rect">
            <a:avLst/>
          </a:prstGeom>
          <a:ln w="0">
            <a:noFill/>
          </a:ln>
        </p:spPr>
      </p:pic>
      <p:sp>
        <p:nvSpPr>
          <p:cNvPr id="99" name="WordArt 9"/>
          <p:cNvSpPr txBox="1"/>
          <p:nvPr/>
        </p:nvSpPr>
        <p:spPr>
          <a:xfrm>
            <a:off x="2556000" y="189000"/>
            <a:ext cx="5903640" cy="14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ные вопросы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484360" y="333360"/>
            <a:ext cx="6400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Обеспечивает развивающий эффект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Преодолевает «социальную изоляцию»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Раскрывает способности детей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Стимулируют индивидуальную деятельность, творческий потенциал ребенка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Позволяет увидеть продукт своего воображения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Позволяет восстановить динамику своего творчества;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2268360" y="0"/>
            <a:ext cx="66963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начение компьютера для дошкольников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2" name="Picture 7" descr="диск"/>
          <p:cNvPicPr/>
          <p:nvPr/>
        </p:nvPicPr>
        <p:blipFill>
          <a:blip r:embed="rId1"/>
          <a:stretch/>
        </p:blipFill>
        <p:spPr>
          <a:xfrm>
            <a:off x="8101080" y="1197000"/>
            <a:ext cx="718920" cy="57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484360" y="189000"/>
            <a:ext cx="640080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4427640" y="170028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879ec7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187c"/>
                </a:solidFill>
                <a:latin typeface="Arial"/>
              </a:rPr>
              <a:t>Базовые виды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187c"/>
                </a:solidFill>
                <a:latin typeface="Arial"/>
              </a:rPr>
              <a:t>деятельности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287960" y="328464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Предметно-продуктивная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411280" y="1557360"/>
            <a:ext cx="158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Игровая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5867280" y="765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Конструктивная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7238160" y="191628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Музыкальная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987640" y="765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Изобразительная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0" name="AutoShape 14"/>
          <p:cNvSpPr/>
          <p:nvPr/>
        </p:nvSpPr>
        <p:spPr>
          <a:xfrm>
            <a:off x="2556000" y="3789360"/>
            <a:ext cx="6264000" cy="1008000"/>
          </a:xfrm>
          <a:prstGeom prst="downArrowCallout">
            <a:avLst>
              <a:gd name="adj1" fmla="val 155371"/>
              <a:gd name="adj2" fmla="val 135477"/>
              <a:gd name="adj3" fmla="val 16667"/>
              <a:gd name="adj4" fmla="val 66667"/>
            </a:avLst>
          </a:prstGeom>
          <a:solidFill>
            <a:srgbClr val="879ec7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187c"/>
                </a:solidFill>
                <a:latin typeface="Arial"/>
              </a:rPr>
              <a:t>Если они развиты</a:t>
            </a:r>
            <a:r>
              <a:rPr b="0" lang="ru-RU" sz="2400" spc="-1" strike="noStrike">
                <a:solidFill>
                  <a:srgbClr val="10187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2843280" y="4941720"/>
            <a:ext cx="5832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В 3 г-простейшие способы управления на          компьютере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Компьютер новое средство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AutoShape 16"/>
          <p:cNvSpPr/>
          <p:nvPr/>
        </p:nvSpPr>
        <p:spPr>
          <a:xfrm>
            <a:off x="5003640" y="2637000"/>
            <a:ext cx="1224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79ec7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AutoShape 17"/>
          <p:cNvSpPr/>
          <p:nvPr/>
        </p:nvSpPr>
        <p:spPr>
          <a:xfrm>
            <a:off x="3780000" y="1773360"/>
            <a:ext cx="647640" cy="718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879ec7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6659640" y="1773360"/>
            <a:ext cx="57636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79ec7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AutoShape 23"/>
          <p:cNvSpPr/>
          <p:nvPr/>
        </p:nvSpPr>
        <p:spPr>
          <a:xfrm>
            <a:off x="4427640" y="1197000"/>
            <a:ext cx="77472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79ec7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6" name="AutoShape 24"/>
          <p:cNvSpPr/>
          <p:nvPr/>
        </p:nvSpPr>
        <p:spPr>
          <a:xfrm>
            <a:off x="5867280" y="1197000"/>
            <a:ext cx="77328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79ec7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7" name="Picture 25" descr="книга1"/>
          <p:cNvPicPr/>
          <p:nvPr/>
        </p:nvPicPr>
        <p:blipFill>
          <a:blip r:embed="rId1"/>
          <a:stretch/>
        </p:blipFill>
        <p:spPr>
          <a:xfrm>
            <a:off x="6877080" y="5300640"/>
            <a:ext cx="1871640" cy="1428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84360" y="259920"/>
            <a:ext cx="602136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редлагаем перечень компьютерных игр, развивающих интеллектуальные способности детей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4464000" cy="223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3203640" y="3933720"/>
            <a:ext cx="4464000" cy="273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5437080" cy="4005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2843280" y="189000"/>
            <a:ext cx="5473800" cy="25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07:52:34Z</dcterms:created>
  <dc:creator>Наташа</dc:creator>
  <dc:description/>
  <dc:language>en-US</dc:language>
  <cp:lastModifiedBy>Габов Сергей</cp:lastModifiedBy>
  <dcterms:modified xsi:type="dcterms:W3CDTF">2011-03-15T06:20:26Z</dcterms:modified>
  <cp:revision>15</cp:revision>
  <dc:subject/>
  <dc:title>Слайд 1</dc:title>
</cp:coreProperties>
</file>